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9CE6-ABFF-46B7-BB95-7D16D88DC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D4CB-5B05-4027-927E-61580E84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1106-1B6A-4769-A236-24FD4D3EC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E641-C1E6-4D67-BD41-2B8C3A2A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E5AD-BC7B-4242-86D5-DE5A82DC4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F7F9-BF01-48DB-A05D-FD3FC7B2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CB7B-9547-4728-84AD-B527503F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53B3-56D4-4B99-843F-1A2B1965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179F-8C1E-4CA1-BFFB-C2123739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B89C-BFCF-48E0-8DBF-A5165724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370F-AEC6-4095-92F9-67906A0C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7563-DECA-4D5D-9FD6-937344C3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AECD-CC60-4374-B906-0B4F14C4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E7EC-BA81-4B99-8F8A-5CCC7E7A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DA4F-6B9B-4314-AB47-7A608465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0B8D-A110-42A8-A928-AF5D2493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80DE-BB31-4751-83D9-B65B86726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FBF8D-F5AF-4C90-BCB4-D7758AF8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0DC14-1643-4129-8919-71384F62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2E08C-4B35-4A99-90BF-33A582B3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577F5-BEC2-4CF6-AA5F-E4803EC8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463B3-7263-4278-9BCC-8BAC3C6B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85FB-BF8F-486D-892E-348F4711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48DD6-A19E-445B-8972-577F2926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FBA41-5F5B-4256-82A3-620CDC8D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1B574-E476-4AB1-8BB7-51116C78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A805A-6E17-4589-954B-45AB6C36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17AD6-CDF1-4F4E-AAA0-44EE5440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D4EA4-90E9-428C-B064-64872B8A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85F39-82D3-4E0D-B9D5-21FE12058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A386AB-BA9C-499C-96FC-50F9B08E2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335C35-0AEB-4AE5-B911-E6FA6122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5E317C-A352-4F83-AC28-9101DBB0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B242-CA73-41AD-95D3-9C6C8243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7939F4-A633-47F5-B410-7FF653E4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DEC569-9D60-44E4-8EDD-15402085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B9A5CB-E7AF-4EAE-AA51-FC4726A7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FF55E6-F608-442A-82BF-1D3C7909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BD6F64-2519-4E91-A509-12A37EAF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68B92B-8615-4B31-AE23-2D488B9C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B6EF38-CD25-4499-80CE-E7DA0EAE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342E76-BD6B-465D-91B1-3A24630F8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54C1C4-7FC1-424D-A663-EFB80F1D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B21BF2-C020-46E5-ADDA-F7D266BCC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1F6B-290F-4899-9433-8BA90706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C20A82-F838-45EC-A333-94E25E48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C47BF2-8D3D-4F2F-82FD-0368ADF9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16AC89-1315-4815-A4F1-97435D22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B31C33-27BE-4A9E-9BA1-65324C40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F7F3EE-EADC-4E2B-9D8D-EECC3D4F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C06169-1EBD-4FD4-A10D-E9FFB749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D43B0B-3598-4F54-A60B-4A57E693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5653C4-0FB7-4A7D-AA0F-7C7D2AA1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0DFFF5-4C0E-47D0-A5A7-3F442EE7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3F82EA-16C9-413F-BA99-5A4D427F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B884-168F-4BD7-BB4D-4E70496A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353CC0-7A57-4895-A605-51074AFD6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A19663-8553-421B-A6C3-54A893AC7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AAEF02-4EAF-4D60-825A-8AFEA90F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DD1808-5ECD-45EC-B541-AD4EBB32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20E206-7D7B-4630-BF24-3F849ECB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D28081-0C35-4D02-9E89-CA7DC6D3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852F5D-2F35-4433-800E-C2DD2A2C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64A369-CF6A-4E92-A929-CA1AC9CD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FDFE6D-3D52-4F71-97C3-8555F48F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937015-3A40-4DF8-AEB5-EA29049E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4D89-AE8B-4C3A-8FA2-4AAA77B2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BDA239-5738-4022-B1BF-018FD211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7D9542-97F5-4310-BEE1-0621AD88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6952CE-EBDE-49D0-AB0D-6234CA48D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5424-AD6A-411F-A2CF-BB2F11E7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B0E7-73F4-43E7-A424-D2C9BF55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8f6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ceb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4e2d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6C36-2DD4-4C1B-9C25-FA3995A5499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cebd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e0d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e0d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f0ec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cebd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f0ec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cebd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cebd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8f6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ceb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4e2d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D65D-8D20-40A4-899A-A21DF0A63D5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cebd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e0d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e0d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f0ec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cebd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Straight Connector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f0ec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Straight Connector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cebd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Straight Connector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cebd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Oval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Oval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Oval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Oval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Oval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Straight Connector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bde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aebde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8f6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ceb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4e2d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bd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6626-6BA4-45B8-99C3-174906EA34F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8f6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ceb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4e2d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A3E3-A2A8-40C8-923C-46096ECE9AF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Straight Connector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Straight Connector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Oval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8f6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ceb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4e2d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CD14-2A53-42A9-B1FB-7768BBF4A0E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traight Connector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Oval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Straight Connector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Straight Connector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8f6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ceb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4e2d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86D9-B864-44C6-B9FD-3C0C563E7C6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4857840" cy="331164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3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HE 397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Group Charli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riya Chetty, Scott Morgan, Brian Mottel, Daniyal Qamar, Sukhjinder Singh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entor: Dennis O’ Brie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r. Jeffery Per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6a55"/>
                </a:solidFill>
                <a:latin typeface="Century Schoolbook"/>
              </a:rPr>
              <a:t>Data Reactor</a:t>
            </a:r>
            <a:endParaRPr b="0" lang="en-US" sz="2600" spc="-1" strike="noStrike">
              <a:solidFill>
                <a:srgbClr val="676a55"/>
              </a:solidFill>
              <a:latin typeface="Century Schoolbook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228600" y="914400"/>
          <a:ext cx="8534520" cy="2944800"/>
        </p:xfrm>
        <a:graphic>
          <a:graphicData uri="http://schemas.openxmlformats.org/drawingml/2006/table">
            <a:tbl>
              <a:tblPr/>
              <a:tblGrid>
                <a:gridCol w="973080"/>
                <a:gridCol w="968400"/>
                <a:gridCol w="835200"/>
                <a:gridCol w="920520"/>
                <a:gridCol w="903240"/>
                <a:gridCol w="901800"/>
                <a:gridCol w="816120"/>
                <a:gridCol w="668160"/>
                <a:gridCol w="793800"/>
                <a:gridCol w="75420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on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(lbmol/h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ction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0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75.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37.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69.4455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35.2083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68.0897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84.530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92.7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46.860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00.9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1" lang="en-U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831.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98.0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49.410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71.785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626.386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46.09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247.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838.37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641.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</a:t>
                      </a:r>
                      <a:r>
                        <a:rPr b="1" lang="en-U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9.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.55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9.702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.46676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3.23074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9.9947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6.75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3.52271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46.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</a:t>
                      </a:r>
                      <a:r>
                        <a:rPr b="1" lang="en-U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57.1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94.4916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9.4205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55.5241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71.964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80.1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34.2954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88.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1" lang="en-U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1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42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588110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258670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92922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599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270348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.20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5943600" y="4191120"/>
          <a:ext cx="2743200" cy="1141200"/>
        </p:xfrm>
        <a:graphic>
          <a:graphicData uri="http://schemas.openxmlformats.org/drawingml/2006/table">
            <a:tbl>
              <a:tblPr/>
              <a:tblGrid>
                <a:gridCol w="1058760"/>
                <a:gridCol w="1684440"/>
              </a:tblGrid>
              <a:tr h="2840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rge (lbmol/h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.43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.42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2.9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228600" y="4191120"/>
          <a:ext cx="5334120" cy="2247840"/>
        </p:xfrm>
        <a:graphic>
          <a:graphicData uri="http://schemas.openxmlformats.org/drawingml/2006/table">
            <a:tbl>
              <a:tblPr/>
              <a:tblGrid>
                <a:gridCol w="1300320"/>
                <a:gridCol w="1050840"/>
                <a:gridCol w="1747800"/>
                <a:gridCol w="12351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halpies 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tu/lbm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ows In (lbmol/h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In (Btu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72E+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976.811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7190E+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8E+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472.953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3777E+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37E+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6.619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9327E+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3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8E+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00E+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3E+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00E+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0E+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1E+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91428E+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456840" y="68544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72880">
              <a:spcBef>
                <a:spcPts val="115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6a55"/>
                </a:solidFill>
                <a:latin typeface="Century Schoolbook"/>
              </a:rPr>
              <a:t>MATERIAL AND ENERGY BALANCES</a:t>
            </a:r>
            <a:br>
              <a:rPr sz="4600"/>
            </a:br>
            <a:r>
              <a:rPr b="0" lang="en-US" sz="4600" spc="-1" strike="noStrike">
                <a:solidFill>
                  <a:srgbClr val="676a55"/>
                </a:solidFill>
                <a:latin typeface="Century Schoolbook"/>
              </a:rPr>
              <a:t>DISTILLATION COLUMN</a:t>
            </a:r>
            <a:endParaRPr b="0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-3052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Material Balance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228600" y="1143000"/>
          <a:ext cx="8686800" cy="4950000"/>
        </p:xfrm>
        <a:graphic>
          <a:graphicData uri="http://schemas.openxmlformats.org/drawingml/2006/table">
            <a:tbl>
              <a:tblPr/>
              <a:tblGrid>
                <a:gridCol w="1295280"/>
                <a:gridCol w="1371600"/>
                <a:gridCol w="1067040"/>
                <a:gridCol w="1341360"/>
                <a:gridCol w="1173240"/>
                <a:gridCol w="1234800"/>
                <a:gridCol w="1203480"/>
              </a:tblGrid>
              <a:tr h="871560">
                <a:tc gridSpan="7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Material Balance Distillation Colu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6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ed Compos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mount in feed            (LB-MOL/H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stillate Compos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mount in Distillate    (LB-Mol/H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ottoms Compos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mount in Bottoms     (LB-Mol/H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90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than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97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488.4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9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450.9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.4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903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2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1.2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9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8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0.2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903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669.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451.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7.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Energy Balance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533160" y="1523520"/>
            <a:ext cx="7467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Century Schoolbook"/>
              </a:rPr>
              <a:t>  </a:t>
            </a:r>
            <a:r>
              <a:rPr b="1" lang="en-US" sz="4000" spc="-1" strike="noStrike">
                <a:solidFill>
                  <a:srgbClr val="676a55"/>
                </a:solidFill>
                <a:latin typeface="Century Schoolbook"/>
              </a:rPr>
              <a:t>HAND CALCULATIONS AND DATA DISTILLATION COLUM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Distillation Column Material Balance 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ssumpt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7669.62 lb-Moles/Hr of Methanol/H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0 in fee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eed composition 97.6% Methanol, 2.4% H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eed Pressure is 14.7psi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99.5% Methanol in Distillat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Hand Calculations Distillation Column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terial Balan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 = B + 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z = B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+ D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entury Schoolbook"/>
              </a:rPr>
              <a:t>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nergy Balan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h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entury Schoolbook"/>
              </a:rPr>
              <a:t>f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+ Q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entury Schoolbook"/>
              </a:rPr>
              <a:t>C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+ Q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entury Schoolbook"/>
              </a:rPr>
              <a:t>R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= Dh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entury Schoolbook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+Bh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entury Schoolbook"/>
              </a:rPr>
              <a:t>B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Q = m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entury Schoolbook"/>
              </a:rPr>
              <a:t>P</a:t>
            </a:r>
            <a:r>
              <a:rPr b="0" lang="el-GR" sz="2100" spc="-1" strike="noStrike">
                <a:solidFill>
                  <a:srgbClr val="000000"/>
                </a:solidFill>
                <a:latin typeface="Century Schoolbook"/>
              </a:rPr>
              <a:t>Δ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5334120" y="1600200"/>
            <a:ext cx="347508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160" y="2209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Century Schoolbook"/>
              </a:rPr>
              <a:t>MATERIAL AND ENERGY BALANCE</a:t>
            </a:r>
            <a:br>
              <a:rPr sz="4000"/>
            </a:br>
            <a:r>
              <a:rPr b="0" lang="en-US" sz="4000" spc="-1" strike="noStrike">
                <a:solidFill>
                  <a:srgbClr val="676a55"/>
                </a:solidFill>
                <a:latin typeface="Century Schoolbook"/>
              </a:rPr>
              <a:t>HEAT EXCHANGER</a:t>
            </a:r>
            <a:endParaRPr b="0" lang="en-US" sz="4000" spc="-1" strike="noStrike">
              <a:solidFill>
                <a:srgbClr val="676a55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MATERIAL BALANCE AND DATA for HEAT EXCHANGER 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838080" y="1600200"/>
          <a:ext cx="6782040" cy="1941480"/>
        </p:xfrm>
        <a:graphic>
          <a:graphicData uri="http://schemas.openxmlformats.org/drawingml/2006/table">
            <a:tbl>
              <a:tblPr/>
              <a:tblGrid>
                <a:gridCol w="1495440"/>
                <a:gridCol w="1992240"/>
                <a:gridCol w="1467000"/>
                <a:gridCol w="1827360"/>
              </a:tblGrid>
              <a:tr h="947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rude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emperature (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low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bmol/hr (in/ou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perature Out (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511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eO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.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482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.75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838080" y="3581280"/>
          <a:ext cx="6782040" cy="2551320"/>
        </p:xfrm>
        <a:graphic>
          <a:graphicData uri="http://schemas.openxmlformats.org/drawingml/2006/table">
            <a:tbl>
              <a:tblPr/>
              <a:tblGrid>
                <a:gridCol w="1495440"/>
                <a:gridCol w="1992240"/>
                <a:gridCol w="1467000"/>
                <a:gridCol w="1827360"/>
              </a:tblGrid>
              <a:tr h="104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ynga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emperature (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low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bmol/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in/ou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perature Out (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51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481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Hand Calculations HX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7848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Q = </a:t>
            </a:r>
            <a:r>
              <a:rPr b="0" lang="el-GR" sz="1600" spc="-1" strike="noStrike">
                <a:solidFill>
                  <a:srgbClr val="000000"/>
                </a:solidFill>
                <a:latin typeface="Century Schoolbook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C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el-GR" sz="1600" spc="-1" strike="noStrike">
                <a:solidFill>
                  <a:srgbClr val="000000"/>
                </a:solidFill>
                <a:latin typeface="Century Schoolbook"/>
              </a:rPr>
              <a:t>Δ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(Syngas in) = 482 ˚F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(Crude MeOH in) = 515 ˚F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Crude MeOH in = 31.22 lbmol/hr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Water in = .7554 lbmol/hr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yngas Compositions (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= 6.6, CO = 3.2, 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Schoolbook"/>
              </a:rPr>
              <a:t>2 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= 2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Q = 31.22lbmol/hr(267)(482-515) +.7554lbmol/hr(271)(482-515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Q = -281834.9622 Btu/hr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374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= 6.6(122)(T-482) + 3.2(126)(T-482) + 2(188)(T-482)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374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= 8052T - 388106.4  + 403.2T – 194342.4 + 37.6T – 18123.2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281834.96 Btu/hr = 100 (125) (T-482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(Syngas out) = 505 ˚F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5791320" y="1600200"/>
          <a:ext cx="2361960" cy="690480"/>
        </p:xfrm>
        <a:graphic>
          <a:graphicData uri="http://schemas.openxmlformats.org/drawingml/2006/table">
            <a:tbl>
              <a:tblPr/>
              <a:tblGrid>
                <a:gridCol w="1180800"/>
                <a:gridCol w="118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ethan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"/>
          <p:cNvSpPr/>
          <p:nvPr/>
        </p:nvSpPr>
        <p:spPr>
          <a:xfrm>
            <a:off x="5734440" y="1219320"/>
            <a:ext cx="2399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 Values (Btu/l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°F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467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a55"/>
                </a:solidFill>
                <a:latin typeface="Century Schoolbook"/>
              </a:rPr>
              <a:t>BLOCK FLOW DIAGRAM</a:t>
            </a:r>
            <a:endParaRPr b="0" lang="en-US" sz="28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1523880"/>
            <a:ext cx="914400" cy="91440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ressor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"/>
          <p:cNvSpPr/>
          <p:nvPr/>
        </p:nvSpPr>
        <p:spPr>
          <a:xfrm>
            <a:off x="1219320" y="198108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"/>
          <p:cNvSpPr/>
          <p:nvPr/>
        </p:nvSpPr>
        <p:spPr>
          <a:xfrm>
            <a:off x="1676520" y="1523880"/>
            <a:ext cx="838080" cy="91440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X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1752480" y="2437920"/>
            <a:ext cx="18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752480" y="1219320"/>
            <a:ext cx="18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"/>
          <p:cNvSpPr/>
          <p:nvPr/>
        </p:nvSpPr>
        <p:spPr>
          <a:xfrm>
            <a:off x="2362320" y="1219320"/>
            <a:ext cx="14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"/>
          <p:cNvSpPr/>
          <p:nvPr/>
        </p:nvSpPr>
        <p:spPr>
          <a:xfrm>
            <a:off x="2362320" y="2438280"/>
            <a:ext cx="14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"/>
          <p:cNvSpPr/>
          <p:nvPr/>
        </p:nvSpPr>
        <p:spPr>
          <a:xfrm>
            <a:off x="1828800" y="3200400"/>
            <a:ext cx="457200" cy="30492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"/>
          <p:cNvSpPr/>
          <p:nvPr/>
        </p:nvSpPr>
        <p:spPr>
          <a:xfrm>
            <a:off x="2535120" y="205740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"/>
          <p:cNvSpPr/>
          <p:nvPr/>
        </p:nvSpPr>
        <p:spPr>
          <a:xfrm>
            <a:off x="2916360" y="1676520"/>
            <a:ext cx="990360" cy="91440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litter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"/>
          <p:cNvSpPr/>
          <p:nvPr/>
        </p:nvSpPr>
        <p:spPr>
          <a:xfrm>
            <a:off x="3906720" y="1905120"/>
            <a:ext cx="533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"/>
          <p:cNvSpPr/>
          <p:nvPr/>
        </p:nvSpPr>
        <p:spPr>
          <a:xfrm>
            <a:off x="3906720" y="2133720"/>
            <a:ext cx="533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"/>
          <p:cNvSpPr/>
          <p:nvPr/>
        </p:nvSpPr>
        <p:spPr>
          <a:xfrm>
            <a:off x="3906720" y="2362320"/>
            <a:ext cx="533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"/>
          <p:cNvSpPr/>
          <p:nvPr/>
        </p:nvSpPr>
        <p:spPr>
          <a:xfrm>
            <a:off x="4440240" y="1676520"/>
            <a:ext cx="914400" cy="91440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o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"/>
          <p:cNvSpPr/>
          <p:nvPr/>
        </p:nvSpPr>
        <p:spPr>
          <a:xfrm>
            <a:off x="5334120" y="2133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2" name=""/>
          <p:cNvSpPr/>
          <p:nvPr/>
        </p:nvSpPr>
        <p:spPr>
          <a:xfrm>
            <a:off x="7031160" y="1676520"/>
            <a:ext cx="761760" cy="91440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enser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"/>
          <p:cNvSpPr/>
          <p:nvPr/>
        </p:nvSpPr>
        <p:spPr>
          <a:xfrm>
            <a:off x="7792920" y="213372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"/>
          <p:cNvSpPr/>
          <p:nvPr/>
        </p:nvSpPr>
        <p:spPr>
          <a:xfrm>
            <a:off x="8174160" y="1676520"/>
            <a:ext cx="761760" cy="91440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"/>
          <p:cNvSpPr/>
          <p:nvPr/>
        </p:nvSpPr>
        <p:spPr>
          <a:xfrm>
            <a:off x="8555040" y="2590920"/>
            <a:ext cx="144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"/>
          <p:cNvSpPr/>
          <p:nvPr/>
        </p:nvSpPr>
        <p:spPr>
          <a:xfrm>
            <a:off x="8555040" y="3809880"/>
            <a:ext cx="14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4973760" y="4952880"/>
            <a:ext cx="35812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"/>
          <p:cNvSpPr/>
          <p:nvPr/>
        </p:nvSpPr>
        <p:spPr>
          <a:xfrm>
            <a:off x="4973760" y="49528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"/>
          <p:cNvSpPr/>
          <p:nvPr/>
        </p:nvSpPr>
        <p:spPr>
          <a:xfrm>
            <a:off x="4287960" y="5410080"/>
            <a:ext cx="1295280" cy="53352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illation 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"/>
          <p:cNvSpPr/>
          <p:nvPr/>
        </p:nvSpPr>
        <p:spPr>
          <a:xfrm>
            <a:off x="6421320" y="5410080"/>
            <a:ext cx="1371600" cy="53352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illation I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8555040" y="129492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4897440" y="1295280"/>
            <a:ext cx="3657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352680" y="1295280"/>
            <a:ext cx="152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"/>
          <p:cNvSpPr/>
          <p:nvPr/>
        </p:nvSpPr>
        <p:spPr>
          <a:xfrm>
            <a:off x="3373560" y="129528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"/>
          <p:cNvSpPr/>
          <p:nvPr/>
        </p:nvSpPr>
        <p:spPr>
          <a:xfrm>
            <a:off x="3602160" y="259092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"/>
          <p:cNvSpPr/>
          <p:nvPr/>
        </p:nvSpPr>
        <p:spPr>
          <a:xfrm>
            <a:off x="3602160" y="3276720"/>
            <a:ext cx="3809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7412040" y="259056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"/>
          <p:cNvSpPr/>
          <p:nvPr/>
        </p:nvSpPr>
        <p:spPr>
          <a:xfrm>
            <a:off x="1752480" y="1219320"/>
            <a:ext cx="609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"/>
          <p:cNvSpPr/>
          <p:nvPr/>
        </p:nvSpPr>
        <p:spPr>
          <a:xfrm>
            <a:off x="7010280" y="594360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"/>
          <p:cNvSpPr/>
          <p:nvPr/>
        </p:nvSpPr>
        <p:spPr>
          <a:xfrm>
            <a:off x="7010280" y="6400800"/>
            <a:ext cx="6098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"/>
          <p:cNvSpPr/>
          <p:nvPr/>
        </p:nvSpPr>
        <p:spPr>
          <a:xfrm>
            <a:off x="7715520" y="6226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er Alcohols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7010280" y="518112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"/>
          <p:cNvSpPr/>
          <p:nvPr/>
        </p:nvSpPr>
        <p:spPr>
          <a:xfrm>
            <a:off x="7010280" y="518148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"/>
          <p:cNvSpPr/>
          <p:nvPr/>
        </p:nvSpPr>
        <p:spPr>
          <a:xfrm>
            <a:off x="5638680" y="5715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7412040" y="83772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820760" y="838080"/>
            <a:ext cx="2590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"/>
          <p:cNvSpPr/>
          <p:nvPr/>
        </p:nvSpPr>
        <p:spPr>
          <a:xfrm>
            <a:off x="4821120" y="838080"/>
            <a:ext cx="18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"/>
          <p:cNvSpPr/>
          <p:nvPr/>
        </p:nvSpPr>
        <p:spPr>
          <a:xfrm>
            <a:off x="5644800" y="820800"/>
            <a:ext cx="7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t Feed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"/>
          <p:cNvSpPr/>
          <p:nvPr/>
        </p:nvSpPr>
        <p:spPr>
          <a:xfrm>
            <a:off x="4118040" y="323388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Syngas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"/>
          <p:cNvSpPr/>
          <p:nvPr/>
        </p:nvSpPr>
        <p:spPr>
          <a:xfrm>
            <a:off x="7621920" y="5029200"/>
            <a:ext cx="152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e AA Methanol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"/>
          <p:cNvSpPr/>
          <p:nvPr/>
        </p:nvSpPr>
        <p:spPr>
          <a:xfrm>
            <a:off x="6459120" y="4659480"/>
            <a:ext cx="144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ude Methanol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"/>
          <p:cNvSpPr/>
          <p:nvPr/>
        </p:nvSpPr>
        <p:spPr>
          <a:xfrm>
            <a:off x="5470200" y="1252440"/>
            <a:ext cx="125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ycle Stream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200040" y="5715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"/>
          <p:cNvSpPr/>
          <p:nvPr/>
        </p:nvSpPr>
        <p:spPr>
          <a:xfrm>
            <a:off x="2743200" y="5257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Key impurities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76a55"/>
                </a:solidFill>
                <a:latin typeface="Century Schoolbook"/>
              </a:rPr>
              <a:t>ECONOMIC ANALYSIS</a:t>
            </a:r>
            <a:endParaRPr b="0" lang="en-US" sz="4400" spc="-1" strike="noStrike">
              <a:solidFill>
                <a:srgbClr val="676a55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xed Capital Cost</a:t>
            </a:r>
            <a:br>
              <a:rPr sz="20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able 1.1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timate costs of specific units in the process flow diagram</a:t>
            </a:r>
            <a:br>
              <a:rPr sz="1400"/>
            </a:br>
            <a:endParaRPr b="0" lang="en-US" sz="1400" spc="-1" strike="noStrike">
              <a:solidFill>
                <a:srgbClr val="676a55"/>
              </a:solidFill>
              <a:latin typeface="Century Schoolbook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457200" y="990720"/>
          <a:ext cx="7467480" cy="5232240"/>
        </p:xfrm>
        <a:graphic>
          <a:graphicData uri="http://schemas.openxmlformats.org/drawingml/2006/table">
            <a:tbl>
              <a:tblPr/>
              <a:tblGrid>
                <a:gridCol w="1494000"/>
                <a:gridCol w="1492200"/>
                <a:gridCol w="1493640"/>
                <a:gridCol w="1492200"/>
                <a:gridCol w="1495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t 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e Cost/un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of un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ost 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mp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237,1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,711,3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ress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P-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resso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311,2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311,2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c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-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392,5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392,5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-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t Exchan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948,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948,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-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t Exchan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,1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,1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para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-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ash un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8,1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96,3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-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illation t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1,0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62,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rage Tan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oating ro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rage T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0,5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13,90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69,507,01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"/>
          <p:cNvSpPr/>
          <p:nvPr/>
        </p:nvSpPr>
        <p:spPr>
          <a:xfrm>
            <a:off x="669960" y="6400800"/>
            <a:ext cx="7788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mirkhas, Elton , and Raj Bedi. "METHANOL PRODUCTION IN TRINIDAD &amp; TOBAGO."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hase II Design Repor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07062006. n. pag. Web. 15 Feb 2011.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"/>
          <p:cNvGraphicFramePr/>
          <p:nvPr/>
        </p:nvGraphicFramePr>
        <p:xfrm>
          <a:off x="457200" y="609480"/>
          <a:ext cx="8458200" cy="5864400"/>
        </p:xfrm>
        <a:graphic>
          <a:graphicData uri="http://schemas.openxmlformats.org/drawingml/2006/table">
            <a:tbl>
              <a:tblPr/>
              <a:tblGrid>
                <a:gridCol w="3836880"/>
                <a:gridCol w="46213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t F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nual 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ed stocks (raw material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ng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ed water make-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6,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364,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70,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ctric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oling water, 90F, 65psig (C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led cooling water, 60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7,634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7,769,8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$90,009,7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5,413,6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rations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labor-relat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rect wages and benef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rect salaries and benef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rating supplies and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laborator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,048,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09,6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,504,1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$78,6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5,840,7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nten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ges and benef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rials and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5,26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$18,767,4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4,027,4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prec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65,018,119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entire plant lif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t of Manufac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83,764,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General Expen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,764,7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Production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55,622,9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hanol Produ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S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15,294,40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5" name=""/>
          <p:cNvSpPr/>
          <p:nvPr/>
        </p:nvSpPr>
        <p:spPr>
          <a:xfrm>
            <a:off x="898560" y="0"/>
            <a:ext cx="7331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erating Cos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1.2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stimate plant costs and operations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" y="655308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rkins, John. "WHAT IS UNDERGROUND COAL GASIFICATION (UCG)? ."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lean Global Energ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(2010): n. pag. Web. 15 Feb 2011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pital Investment</a:t>
            </a:r>
            <a:br>
              <a:rPr sz="28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ble 1.3: Annual costs</a:t>
            </a:r>
            <a:br>
              <a:rPr sz="1400"/>
            </a:br>
            <a:endParaRPr b="0" lang="en-US" sz="14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1523880" y="1600200"/>
          <a:ext cx="6858000" cy="4419360"/>
        </p:xfrm>
        <a:graphic>
          <a:graphicData uri="http://schemas.openxmlformats.org/drawingml/2006/table">
            <a:tbl>
              <a:tblPr/>
              <a:tblGrid>
                <a:gridCol w="3204000"/>
                <a:gridCol w="3654000"/>
              </a:tblGrid>
              <a:tr h="84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t 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ical factor in American engineering un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eam, 300psi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.40/ 1000l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ctri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0.04/KW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oling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0.05/ 1000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ste trea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.00/ 1000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R catalyst 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.00/ l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ed water make-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.50/ 1000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0" name=""/>
          <p:cNvSpPr/>
          <p:nvPr/>
        </p:nvSpPr>
        <p:spPr>
          <a:xfrm>
            <a:off x="609480" y="640080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ell, David, and Brian Towler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oal Gasification and Its Application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 William Andrew, 2010. Print. 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Future Goals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clude side reaction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ccount for by produc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fine calculations using more accurate condit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action kinetic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conomics consistent with our projec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istillation column specific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zing of equip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eat exchangers and pump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press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76a55"/>
                </a:solidFill>
                <a:latin typeface="Century Schoolbook"/>
              </a:rPr>
              <a:t>QUESTIONS?</a:t>
            </a:r>
            <a:endParaRPr b="0" lang="en-US" sz="4800" spc="-1" strike="noStrike">
              <a:solidFill>
                <a:srgbClr val="676a55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SCHEMATIC FLOW DIAGRAM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0" t="23464" r="0" b="0"/>
          <a:stretch/>
        </p:blipFill>
        <p:spPr>
          <a:xfrm>
            <a:off x="0" y="1981080"/>
            <a:ext cx="8839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1760" y="1066320"/>
            <a:ext cx="7924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76a55"/>
                </a:solidFill>
                <a:latin typeface="Century Schoolbook"/>
              </a:rPr>
              <a:t>MATERIAL AND ENERGY BALANCES</a:t>
            </a:r>
            <a:br>
              <a:rPr sz="4800"/>
            </a:br>
            <a:r>
              <a:rPr b="0" lang="en-US" sz="4800" spc="-1" strike="noStrike">
                <a:solidFill>
                  <a:srgbClr val="676a55"/>
                </a:solidFill>
                <a:latin typeface="Century Schoolbook"/>
              </a:rPr>
              <a:t>REACTOR</a:t>
            </a:r>
            <a:endParaRPr b="0" lang="en-US" sz="4800" spc="-1" strike="noStrike">
              <a:solidFill>
                <a:srgbClr val="676a55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MATERIAL AND ENERGY BALANCE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0" y="1523880"/>
          <a:ext cx="9144000" cy="4343400"/>
        </p:xfrm>
        <a:graphic>
          <a:graphicData uri="http://schemas.openxmlformats.org/drawingml/2006/table">
            <a:tbl>
              <a:tblPr/>
              <a:tblGrid>
                <a:gridCol w="1143000"/>
                <a:gridCol w="1041480"/>
                <a:gridCol w="1295280"/>
                <a:gridCol w="1082880"/>
                <a:gridCol w="1141200"/>
                <a:gridCol w="1216080"/>
                <a:gridCol w="1236600"/>
                <a:gridCol w="987480"/>
              </a:tblGrid>
              <a:tr h="574920">
                <a:tc gridSpan="7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terial Balance Re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869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le F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osition 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ed to Reactor (lbmol/h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urge (lbmol/h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cycle (lbmol/h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duct Out (lbmol/h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 Tons per 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579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bmol/h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675.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7.4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300.971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579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bmol/h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831.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3.4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5641.5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581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bmol/h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79.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62.9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546.879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579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bmol/h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488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08.6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579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bmol/h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1.20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5.507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MATERIAL AND ENERGY BALANCE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0" y="990720"/>
          <a:ext cx="9144000" cy="5476680"/>
        </p:xfrm>
        <a:graphic>
          <a:graphicData uri="http://schemas.openxmlformats.org/drawingml/2006/table">
            <a:tbl>
              <a:tblPr/>
              <a:tblGrid>
                <a:gridCol w="1447920"/>
                <a:gridCol w="1657080"/>
                <a:gridCol w="1239840"/>
                <a:gridCol w="1721160"/>
                <a:gridCol w="1085760"/>
                <a:gridCol w="1992240"/>
              </a:tblGrid>
              <a:tr h="496800">
                <a:tc gridSpan="6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nergy Balance Re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ccb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erature (F) 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ccb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sure (psi) i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ccb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halpy (Btu/lbmol) 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ccb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p(F) o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ccb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nthalpy (Btu/lbmol) o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ccb0"/>
                    </a:solidFill>
                  </a:tcPr>
                </a:tc>
              </a:tr>
              <a:tr h="422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7190E+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89.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616E+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378E+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89.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6E+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422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9E+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89.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215E+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422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89.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34806E+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89.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78894E+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420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action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874542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422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action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3130.3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42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2E+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18E+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496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44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76a55"/>
                </a:solidFill>
                <a:latin typeface="Century Schoolbook"/>
              </a:rPr>
              <a:t>HAND CALCULATIONS AND DATA REACTOR</a:t>
            </a:r>
            <a:endParaRPr b="0" lang="en-US" sz="4800" spc="-1" strike="noStrike">
              <a:solidFill>
                <a:srgbClr val="676a55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Reactor Material Balance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100% separation of all feed gases (CO, H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, C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) and products (CH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H, H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urge Concentrations are controllable for now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No Nitrogen or Water in feed syng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ther side reactions ignore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ressure effects on 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entury Schoolbook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6a55"/>
                </a:solidFill>
                <a:latin typeface="Century Schoolbook"/>
              </a:rPr>
              <a:t>Hand Calculations Reactor</a:t>
            </a:r>
            <a:endParaRPr b="0" lang="en-US" sz="26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action 1: CO +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↔ 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H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                             </a:t>
            </a:r>
            <a:r>
              <a:rPr b="0" lang="el-GR" sz="1800" spc="-1" strike="noStrike">
                <a:solidFill>
                  <a:srgbClr val="000000"/>
                </a:solidFill>
                <a:latin typeface="Century Schoolbook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entury Schoolbook"/>
              </a:rPr>
              <a:t>rxn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= -38559 Btu/lbmo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action 2: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+3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↔ 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H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0                </a:t>
            </a:r>
            <a:r>
              <a:rPr b="0" lang="el-GR" sz="1800" spc="-1" strike="noStrike">
                <a:solidFill>
                  <a:srgbClr val="000000"/>
                </a:solidFill>
                <a:latin typeface="Century Schoolbook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entury Schoolbook"/>
              </a:rPr>
              <a:t>rxn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= -21324.1 Btu/lbmo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action 1 Conv = 0.5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action 2 Conv = .04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aterial Balance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25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out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 = 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feed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 + 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rec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– .5(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feed 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+ 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rec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– 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purge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25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2out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 = (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2 feed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 + 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2rec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) – 0.04 (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2 feed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 + 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2rec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) – 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2 purge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25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CH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OH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out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 = .5(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out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 + 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feed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) + .04(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2out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 + 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2 feed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Energy Balanc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25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Enthalpy in (BTU) : H = </a:t>
            </a:r>
            <a:r>
              <a:rPr b="0" lang="el-GR" sz="1700" spc="-1" strike="noStrike">
                <a:solidFill>
                  <a:srgbClr val="000000"/>
                </a:solidFill>
                <a:latin typeface="Century Schoolbook"/>
              </a:rPr>
              <a:t>Δ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 H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ref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 + ∫C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p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dt for each component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25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Where Cp was used for gases: Cp = A + BT + CT</a:t>
            </a:r>
            <a:r>
              <a:rPr b="0" lang="en-US" sz="17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 +DT</a:t>
            </a:r>
            <a:r>
              <a:rPr b="0" lang="en-US" sz="17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25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Enthalpy of reaction = .5(</a:t>
            </a:r>
            <a:r>
              <a:rPr b="0" lang="el-GR" sz="1700" spc="-1" strike="noStrike">
                <a:solidFill>
                  <a:srgbClr val="000000"/>
                </a:solidFill>
                <a:latin typeface="Century Schoolbook"/>
              </a:rPr>
              <a:t>Δ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H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rxn1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)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in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 + .04(</a:t>
            </a:r>
            <a:r>
              <a:rPr b="0" lang="el-GR" sz="1700" spc="-1" strike="noStrike">
                <a:solidFill>
                  <a:srgbClr val="000000"/>
                </a:solidFill>
                <a:latin typeface="Century Schoolbook"/>
              </a:rPr>
              <a:t>Δ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H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rxn2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)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2in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00:16:00Z</dcterms:created>
  <dc:creator>Linda</dc:creator>
  <dc:description/>
  <dc:language>en-US</dc:language>
  <cp:lastModifiedBy>xplabpc</cp:lastModifiedBy>
  <dcterms:modified xsi:type="dcterms:W3CDTF">2011-02-15T19:18:54Z</dcterms:modified>
  <cp:revision>62</cp:revision>
  <dc:subject/>
  <dc:title>Slide 1</dc:title>
</cp:coreProperties>
</file>